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C37-6A0E-4B6F-9B47-82229CFF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9C4-5ED4-4127-9888-DFAD8A1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28C-1D1D-459C-A75D-FA32D5CE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4FE-07A6-4874-870E-2B3E9785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559C-4146-438B-BDD4-199DAAF5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138D-ADA4-49BE-B99F-C620F21B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CC5C-42F6-4EC3-B7B9-687F0703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3507-959F-4D89-895C-D716BD93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1C1B-2F73-4638-9A7D-A49F5C3F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0C7C-1EF1-4EE2-878F-8686B054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83D3-4D65-4CD2-8D7F-8CBFB048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B7D-7865-4134-9CA8-DDEC560E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E859-19C1-456E-B486-F2983995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4022-94AA-416F-9125-A914710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4047-66A1-433C-9955-FCEE5DB0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5C81-7730-4374-BC4A-51861430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6CE1-2C03-41AD-8AA7-683C8E65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3C8-ACC3-402C-BBF2-F860708A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C73-340A-4D17-A4E3-8B7BC529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774-6E5A-45F1-AE91-804C274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953-C169-4816-B18A-85D3AC6C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8D4-2D7E-4183-9E24-FF93049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290-5FB4-4663-AFC7-E06B82C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F26-6B41-4E1E-B375-22AA0A7B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7FE-CB2A-489A-9A71-179AA1F85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A03D-31E9-4E05-89C5-6DB0E7DD80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еинфективни грануломи кож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coid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oma annul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robiosis lipoidica diabetic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Б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еп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ихен рубер плану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сориј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Гранулома анула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2 и 3 стадијум сифили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ма специфичне терап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огућа спонтана резолу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ртико терапија (општа, локална, ИЛ), М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,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хидроксихлорокин, циклоспорин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ma anul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ронично, бенигно обољ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јасна етиологија (ујед инсекта, траума, вируси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јчешће деца и адолесцен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дорзуму шака, стопала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, лактови, колена, тр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тни, чврсти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чворићи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који образују ануларне или полицикличне фигур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65760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3657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мене солитарне или генерализов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гија: грануломи око огњишта непотпуне некрозе колаг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г: клиничка слика, хист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Дг: лихен, саркоидоза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crobiosis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poidica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, тине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а терапија (код генерализованих облика): дапсон, ретиноиди, ПУ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а терапија: КС масти (под оклузијом), интралезиони КС, крио 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crobiosis lipoidica diabetico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-90%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д дијабетич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  <a:ea typeface="Tahoma"/>
              </a:rPr>
              <a:t>Предилекциона места: претибијално, симетрич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733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Чворић или макула, ружичасто-жуте боје, или мрке боје, који се спајају у овалне пло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Центар: склератрофичан, жућкаст са телангиектазија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вица: уздигнута, чврста, еритематозна или ливид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4760" y="415116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410080" y="2057400"/>
            <a:ext cx="335304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410080" y="4191120"/>
            <a:ext cx="3353040" cy="1981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1219320" y="2286000"/>
            <a:ext cx="3276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к: спонтана резолуција (2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стологија: грануломи у дубљем дерму, са хијалином некрозом колаг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ДГ: гранулома ануларе, саркоидоза, локализована склеродер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ерапија: КС локално или И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rcoido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ултисистемско обољење коже, слузокожа и унутрашњих орг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тиологија је непознат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ркоидни антиген 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верзибилни имунолошки поремећаји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фицит ћелијског имунит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уморални имунитет је “повишен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лцерозне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сновна ефлоресценција: улцер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арактеристике улку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ализ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елич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вице: подривене или у равни околне кож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ло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ол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и ДДг улцера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Обољења артерија (артеријске улцерациј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Хронична венска инсуфицијенција (венске улцерациј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ематолошк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фекција: ТБЦ, лепра, дубоке микозе, ект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оплазм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и ДДг улцера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рофичке улцерације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um perforans pedis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аскулитис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pura Henoch-Schoenle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Венске улцерациј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мпликација варикозитета и Х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арикозите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82600" y="4151160"/>
            <a:ext cx="7772400" cy="1981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95680" y="4114800"/>
            <a:ext cx="1676520" cy="2238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172200" y="4114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219320" y="3886200"/>
            <a:ext cx="3257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315200" y="3048120"/>
            <a:ext cx="1542960" cy="2962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38080" y="21337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4038480" y="4038480"/>
            <a:ext cx="2438640" cy="1876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Хронична венска инсуфицијенциј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752480"/>
          <a:ext cx="8268840" cy="5047920"/>
        </p:xfrm>
        <a:graphic>
          <a:graphicData uri="http://schemas.openxmlformats.org/drawingml/2006/table">
            <a:tbl>
              <a:tblPr/>
              <a:tblGrid>
                <a:gridCol w="4134240"/>
                <a:gridCol w="413460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са фибринском    наслаг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зимско чишћење (фиброл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руршки дебрид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са ексудациј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жни облози (физиолошки, хиперманган)+ одм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инфицир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лажни обло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ем Сулфадиазин сребро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Б (+/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лкус чистог д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ем Сулфадиазин с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дроколоидне компре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ластери по Гиљеу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фт 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Артеријске улцерациј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ци: атеросклероза, оклузија артерија, емболија, васкуларне колагене болести, васкулитиси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omboanginitis obliter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стариј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 ж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БОЛ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udicatio intermite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ови у мир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јачавају се када пацијент леж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ацијенти преседе целу но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КОЖА: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леда, хладна, без длака, дистрофични нок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 палпирају се артеријални пулсе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Локализација: стопало, бочне стране потколенице или предео малеолу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Улцерација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дубине 3-4цм, прекриве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мрком есхаром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, дно без гранулац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ма варикозит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Гангрена прстију, стопала и/или ног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1952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6576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јчешће се јавља између 40-50 г.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  <a:ea typeface="Tahoma"/>
              </a:rPr>
              <a:t>Кожа: специфичне и неспецифичне проме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е лечење: Пентоксифил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но лечење: тоалета р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ируршко лечење: ампут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ци: дијабетесна неуропатија и неуропатије других етиоло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окализација: стоп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lum perforans ped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линичк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Ограничена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хиперкератотична плоч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Улцерација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у центру плоч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ЕЗБОЛНА, не епителизу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: основно обољењ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4572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bus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yna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зрок: осетљивост артерија на хладноћ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 шакама, ређе стоп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Три етапе: 1. кожа бледа и хлад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2. Цијанотична кож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ahoma"/>
              </a:rPr>
              <a:t>3. Реактивна хипере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ок хроничан, може довести до трофичких пром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Специфич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лиморфне- папуле, нодуси, инфилтровани плаков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ожиља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pus per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арактеристи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лупоидан изгл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-негативан феномен сон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Неспецифич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ythema nodosum (3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rg_hi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703600"/>
          </a:xfrm>
          <a:prstGeom prst="rect">
            <a:avLst/>
          </a:prstGeom>
          <a:ln w="0">
            <a:noFill/>
          </a:ln>
        </p:spPr>
      </p:pic>
      <p:pic>
        <p:nvPicPr>
          <p:cNvPr id="109" name="rg_hi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4760" y="415116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rg_hi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73356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2209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52388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648320" y="41911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зокоже (нодули и плакови): коњуктиве, носна, тонзиле и д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утрашњи органи: плућа (80-100%), кости (5%), очи, паротидне жлезде, лакрималне и саливарне жлезде (Микулицев синдром), увећане лимфне жлезде, ЦНС и сви други унутрашњи орг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2600" y="2017800"/>
          <a:ext cx="7772400" cy="4410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лућ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в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дијастиналне лимфне жлез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ythema nodo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нтана резолу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руг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ренхиматозне про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пуле и ноду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сто спонтана резолу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отпуна регрес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ћи стадију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броза плу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pus per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реверзибилне пром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оли гранулом” без казеозне некро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Figure 1Spectrum of Pathological Findings in Patients with Sarcoidosis."/>
          <p:cNvPicPr/>
          <p:nvPr/>
        </p:nvPicPr>
        <p:blipFill>
          <a:blip r:embed="rId1"/>
          <a:stretch/>
        </p:blipFill>
        <p:spPr>
          <a:xfrm>
            <a:off x="4648320" y="1828800"/>
            <a:ext cx="423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Прегл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уберкилин 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јмов 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Калцемија,калцур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Имуноелектрофореза проте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ТГ плућ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РТГ ша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истологи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Резулта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Негатив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зитив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овише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Хиларна аденопатија, паренхиматозне проме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teitis cys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голи грану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26:39Z</dcterms:created>
  <dc:creator>XP</dc:creator>
  <dc:description/>
  <dc:language>en-US</dc:language>
  <cp:lastModifiedBy>Nebojša Krstić</cp:lastModifiedBy>
  <dcterms:modified xsi:type="dcterms:W3CDTF">2013-09-05T09:36:25Z</dcterms:modified>
  <cp:revision>26</cp:revision>
  <dc:subject/>
  <dc:title>Неинфективни грануломи коже</dc:title>
</cp:coreProperties>
</file>